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766-68D3-4BE5-A100-22C59DA9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FAF-B705-4C09-BA7A-DE0653D8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3E6-22B9-4FBC-81AB-CCCFF2AE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53D-82B7-4254-88BF-8D708D77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282A-5357-4E21-B368-7E1500C1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3ED4-846A-49A6-ACF1-0CCC57A9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94E9-778A-4099-84C0-BCD06DDA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5FB8-EA7F-4BCE-BA70-B9069A3F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5BD8-6E68-436C-BBE7-72798217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7AF9-74AC-4323-89DA-80D6C3F0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0B32-0DA3-4756-B189-D8A84FB4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F74-0E99-46AD-A16C-00CC2F26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6C9F-1791-4CDB-9E6E-1A1EF823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C2E8-8DEC-4ED4-A1F4-387A336D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9EE5-BDD8-4A44-B72E-3499F646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C69C-C609-4FB3-A12D-47A6AF61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1F3D-AB9C-4586-A40F-5C860627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C75-D34E-4F3B-8CD4-94B27A17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1EA-E344-40A5-8DAA-C4CCE2DC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75B-6EC7-4C19-A2AC-480CC812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AD4-3E0E-4143-90B9-BAAA02A4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7F5-45B9-4CBB-94BF-EFC62E82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039-0F41-44B5-A716-6F1923BF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0E1-78AE-414C-94DD-8D08F454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AB8E-D22B-4888-AF66-3CAAA54ED6CB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C9CF-7258-40EC-B73B-BAC7AB041C5F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46000" y="5292720"/>
            <a:ext cx="3062160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36452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Sociais e Comunicação - Direito 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01840" y="115236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40Z</dcterms:modified>
  <cp:revision>184</cp:revision>
  <dc:subject/>
  <dc:title>Slide sem título</dc:title>
</cp:coreProperties>
</file>