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D26-9EE2-4EAF-81F3-17C2DC0D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2AE-3D28-4FCA-A8F9-FF0A6EB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12D-020B-4E79-AA0F-94FA2446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E6A-C16E-46F8-A3FB-B98B3713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4D6A-7527-4777-AF53-9B49C089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67F8-C253-41CD-BF2E-0E70EA5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3F5-7129-44C3-A023-C40366D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342-369A-4607-BE9B-1FAB297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6B16-C24B-4E57-A7D5-C748EE16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E641-910B-4EBB-B56E-89CF133A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6BA-781C-4B86-9E5E-6EC8448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E21-8884-4BE7-B8CA-7E06B03E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878E-6FCA-4506-B572-5B891D3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2942-FAC4-4739-9B3A-DCF111D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843-B8AA-4279-A723-135FCD4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2402-EFEB-4EFE-8184-241405E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271-25A6-4ED6-9D39-5E37EEEF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691-6319-404C-8303-69C4A41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694-38E5-4982-9CEA-3D7634A5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94F-8474-4A1C-BB3C-72079CA8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569-12F3-480E-BAC0-67E665B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562-0A41-42E3-9EDD-00B939F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483-545C-4D40-A2DA-4063678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248-D43C-49B6-9C87-7B14BA2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240-3B65-47FF-899D-2D4614EDEC1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3F01-843D-409E-84D0-9B944C2EE57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74640" y="5149800"/>
            <a:ext cx="306230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68072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: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333333"/>
                </a:solidFill>
                <a:latin typeface="Arial"/>
              </a:rPr>
              <a:t>Ciências Sociais e Comunicação - Administração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6019920" y="2019240"/>
            <a:ext cx="230040" cy="130320"/>
          </a:xfrm>
          <a:custGeom>
            <a:avLst/>
            <a:gdLst/>
            <a:ahLst/>
            <a:rect l="l" t="t" r="r" b="b"/>
            <a:pathLst>
              <a:path w="522" h="314">
                <a:moveTo>
                  <a:pt x="0" y="314"/>
                </a:moveTo>
                <a:lnTo>
                  <a:pt x="184" y="314"/>
                </a:lnTo>
                <a:lnTo>
                  <a:pt x="206" y="313"/>
                </a:lnTo>
                <a:lnTo>
                  <a:pt x="226" y="311"/>
                </a:lnTo>
                <a:lnTo>
                  <a:pt x="246" y="307"/>
                </a:lnTo>
                <a:lnTo>
                  <a:pt x="265" y="301"/>
                </a:lnTo>
                <a:lnTo>
                  <a:pt x="285" y="295"/>
                </a:lnTo>
                <a:lnTo>
                  <a:pt x="303" y="286"/>
                </a:lnTo>
                <a:lnTo>
                  <a:pt x="321" y="277"/>
                </a:lnTo>
                <a:lnTo>
                  <a:pt x="337" y="267"/>
                </a:lnTo>
                <a:lnTo>
                  <a:pt x="353" y="255"/>
                </a:lnTo>
                <a:lnTo>
                  <a:pt x="369" y="243"/>
                </a:lnTo>
                <a:lnTo>
                  <a:pt x="383" y="230"/>
                </a:lnTo>
                <a:lnTo>
                  <a:pt x="396" y="216"/>
                </a:lnTo>
                <a:lnTo>
                  <a:pt x="410" y="201"/>
                </a:lnTo>
                <a:lnTo>
                  <a:pt x="421" y="186"/>
                </a:lnTo>
                <a:lnTo>
                  <a:pt x="431" y="170"/>
                </a:lnTo>
                <a:lnTo>
                  <a:pt x="441" y="153"/>
                </a:lnTo>
                <a:lnTo>
                  <a:pt x="522" y="0"/>
                </a:lnTo>
                <a:lnTo>
                  <a:pt x="15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17840" y="136836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5:01Z</dcterms:modified>
  <cp:revision>186</cp:revision>
  <dc:subject/>
  <dc:title>Slide sem título</dc:title>
</cp:coreProperties>
</file>