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2404050" cy="396033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EC68-A517-4A14-9536-F519442B7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299A-295B-4CC7-9050-7663E94D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3495-C328-4C2C-A7E6-6A025BED0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E8FD-471D-4CF6-A2BA-6ED6D5684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0846-186B-43D5-AED6-B020AA197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D2D5-0EAF-405B-9270-9FAF2B20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B684-FE02-4BB9-8E13-558F344B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FF07-ED22-4F4C-AE40-BA10CC59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72E2-378E-489F-8EFB-C592BD37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9129-8CF2-4A31-A218-C1039EF2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E253-DDA2-4EC3-9347-BBE8E6A3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5D70-2AA8-4391-BB9C-EBBBBF90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CA29D-6BAE-472C-AB5D-1E094A26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35C5-D075-4CD0-AA88-9F0603F6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D1B6-098F-4903-A59A-AC64EBB8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D2F0-3DC5-47BE-897E-880144522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027D-4878-491F-87DC-55594A4AF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A843-89D5-4503-B60A-A61EC550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7E6A-0842-4960-B483-E35465BD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B733-FF05-460E-A88D-7BCA1EB0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A37D-D1F4-4E56-9F0A-1B1DD2CF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9C28-AB59-442A-BD78-22555DD0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B3DC-C24B-43DA-9B10-A6BB7E2C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9365-C864-4110-B084-85D60CDB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ffff">
                <a:alpha val="81176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7A4B-FED7-468F-AD0E-F396A07E26A4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ffff">
                <a:alpha val="81176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2448000" y="19291320"/>
            <a:ext cx="27120600" cy="2805120"/>
          </a:xfrm>
          <a:custGeom>
            <a:avLst/>
            <a:gdLst>
              <a:gd name="textAreaLeft" fmla="*/ 0 w 27120600"/>
              <a:gd name="textAreaRight" fmla="*/ 27120960 w 27120600"/>
              <a:gd name="textAreaTop" fmla="*/ 0 h 2805120"/>
              <a:gd name="textAreaBottom" fmla="*/ 2805480 h 280512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3C66-FFA7-4DAB-B018-DD97C1E40006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20"/>
          <p:cNvSpPr/>
          <p:nvPr/>
        </p:nvSpPr>
        <p:spPr>
          <a:xfrm>
            <a:off x="1062000" y="4889520"/>
            <a:ext cx="30621240" cy="110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6300" spc="-1" strike="noStrike">
                <a:solidFill>
                  <a:srgbClr val="000066"/>
                </a:solidFill>
                <a:latin typeface="Arial"/>
              </a:rPr>
              <a:t>Título da pesquisa  XXXXXXXXXXXXXXXXX</a:t>
            </a:r>
            <a:endParaRPr b="0" lang="en-US" sz="6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322"/>
          <p:cNvSpPr/>
          <p:nvPr/>
        </p:nvSpPr>
        <p:spPr>
          <a:xfrm>
            <a:off x="73080" y="7178760"/>
            <a:ext cx="32187960" cy="32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66"/>
                </a:solidFill>
                <a:latin typeface="Arial"/>
              </a:rPr>
              <a:t>Aluno ou Aluna: </a:t>
            </a:r>
            <a:r>
              <a:rPr b="1" lang="pt-BR" sz="5100" spc="-1" strike="noStrike">
                <a:solidFill>
                  <a:srgbClr val="000066"/>
                </a:solidFill>
                <a:latin typeface="Arial"/>
              </a:rPr>
              <a:t>XXXXXXXX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66"/>
                </a:solidFill>
                <a:latin typeface="Arial"/>
              </a:rPr>
              <a:t>Orientador: </a:t>
            </a: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ou Orientadora:</a:t>
            </a:r>
            <a:r>
              <a:rPr b="0" lang="pt-BR" sz="5100" spc="-1" strike="noStrike">
                <a:solidFill>
                  <a:srgbClr val="000066"/>
                </a:solidFill>
                <a:latin typeface="Arial"/>
              </a:rPr>
              <a:t> Prof. ou Profa. XXXXX Se for Doutor, Prof. Dr. ou Profa. Dra.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66"/>
                </a:solidFill>
                <a:latin typeface="Arial"/>
              </a:rPr>
              <a:t>Ciências da Saúde - Odontologia - Indianópolis (trata-se de um exemplo:cada aluno deve preencher com seus dados de curso e </a:t>
            </a:r>
            <a:r>
              <a:rPr b="0" i="1" lang="pt-BR" sz="5100" spc="-1" strike="noStrike">
                <a:solidFill>
                  <a:srgbClr val="000066"/>
                </a:solidFill>
                <a:latin typeface="Arial"/>
              </a:rPr>
              <a:t>campus</a:t>
            </a:r>
            <a:r>
              <a:rPr b="0" lang="pt-BR" sz="51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Text Box 361"/>
          <p:cNvSpPr/>
          <p:nvPr/>
        </p:nvSpPr>
        <p:spPr>
          <a:xfrm>
            <a:off x="7315200" y="1606680"/>
            <a:ext cx="25088760" cy="233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7200" spc="-1" strike="noStrike">
                <a:solidFill>
                  <a:srgbClr val="000066"/>
                </a:solidFill>
                <a:latin typeface="Arial"/>
              </a:rPr>
              <a:t>Apoio UNIP - Vice-Reitoria de Pós-Graduação e 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200" spc="-1" strike="noStrike">
                <a:solidFill>
                  <a:srgbClr val="000066"/>
                </a:solidFill>
                <a:latin typeface="Arial"/>
              </a:rPr>
              <a:t>Pesquisa 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1224000" y="36252000"/>
            <a:ext cx="1119672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51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4200" spc="-1" strike="noStrike">
                <a:solidFill>
                  <a:srgbClr val="000066"/>
                </a:solidFill>
                <a:latin typeface="Arial"/>
              </a:rPr>
              <a:t>Palavras-chave</a:t>
            </a:r>
            <a:r>
              <a:rPr b="0" lang="pt-BR" sz="4200" spc="-1" strike="noStrike">
                <a:solidFill>
                  <a:srgbClr val="000066"/>
                </a:solidFill>
                <a:latin typeface="Arial"/>
              </a:rPr>
              <a:t>: (de 3 a 5)</a:t>
            </a:r>
            <a:endParaRPr b="0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Picture 9" descr="C:\Users\POS\Pictures\Logos\LogoTarja_ViceReitoria.png"/>
          <p:cNvPicPr/>
          <p:nvPr/>
        </p:nvPicPr>
        <p:blipFill>
          <a:blip r:embed="rId1"/>
          <a:stretch/>
        </p:blipFill>
        <p:spPr>
          <a:xfrm>
            <a:off x="1401840" y="1512720"/>
            <a:ext cx="75992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5:26:35Z</dcterms:created>
  <dc:creator>UNIP</dc:creator>
  <dc:description/>
  <dc:language>en-US</dc:language>
  <cp:lastModifiedBy>POS</cp:lastModifiedBy>
  <dcterms:modified xsi:type="dcterms:W3CDTF">2023-03-16T18:04:47Z</dcterms:modified>
  <cp:revision>181</cp:revision>
  <dc:subject/>
  <dc:title>Slide sem título</dc:title>
</cp:coreProperties>
</file>