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9F4-EDEF-4D42-BB1F-6F1FF06B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2C9-C6D6-41EA-AD7C-4BE3042F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F23-CA14-4A2E-9D6C-F28720B9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3D3-C821-41DA-99E7-D40B91E9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18F9-4732-49C1-97D5-0451B037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1349-AA79-4F7B-97C0-A127FA24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D350-A80C-41BF-A55A-D34A0404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9A39-95AC-4327-ADCB-E45B23E0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6C2E-01A7-4EBE-9E38-32144506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3484-9524-48C1-85A2-81AC6039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A235-CC95-43E2-83D2-8630F9FE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A5D-B940-4710-9E18-6C2866D7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0D23-6F3F-4C37-B22C-3601E5E4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618A-6F6E-45B9-B637-E67FCF24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98EC-6175-47E1-B50D-2825F2D4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93CC-5462-4CBA-9815-C26DE90F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A245-1031-4349-B241-0362410C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CB9-A9BC-45EE-94E5-B3FDE69F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337-F801-48C0-9E61-02886061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31F-E58B-44C5-B4BB-A867AC5B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C20-1C30-4974-87F4-6FCDB27C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29E-FCAE-40DE-9EBF-A9E1E1B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72C-7751-41FC-9677-9CA97429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9D5-8A29-493E-B6E0-2B581708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4CD2-9E96-47EF-9175-3F27CD974CA9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76FA-4B45-47D7-8339-616F177A28BA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917640" y="5073480"/>
            <a:ext cx="3062268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16000" y="742644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Humanas - Pedagog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9290160" y="1606680"/>
            <a:ext cx="2275344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89120" y="1152360"/>
            <a:ext cx="76010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12Z</dcterms:modified>
  <cp:revision>185</cp:revision>
  <dc:subject/>
  <dc:title>Slide sem título</dc:title>
</cp:coreProperties>
</file>