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2404050" cy="39603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18C-198C-4564-896F-E05BFF3E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AB1-000E-4990-9AD0-183998E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62E-DD63-4205-BF08-42207FC6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BDB-C329-4F47-9599-0BAE2160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71A-D71E-42E9-8F80-F3988425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EED7-5803-4CA1-989C-40A3CF36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0F98-7865-43CC-A43C-B1282706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111-9D1D-43B4-ABBE-BE1C5EB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7C7-FAC3-44A1-BB94-D608638B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A03A-F668-4A6A-A396-4207366E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0EF6-4B81-4AD7-BFB5-2A54D1C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574"/>
              </a:spcBef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492-2A8E-43E8-AB3A-71B201A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837A-0031-435E-A6B5-090B40A1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FDB1-99AD-4682-A815-0928BCC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6FC-FFFC-4214-937C-9499363A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D19C-1BAB-4169-9321-49E297B0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74248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054960" y="1144080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000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174248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1054960" y="23852880"/>
            <a:ext cx="886860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439E-FE41-47AB-B1B1-EDAE32AE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E54-02F4-45BA-8044-B29CF1FA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F8EC-5A2A-4C2D-A84E-4DEB9F0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EBA-FB1C-4A15-94A3-3AD0F115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0000" y="2639880"/>
            <a:ext cx="27543240" cy="30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574"/>
              </a:spcBef>
              <a:tabLst>
                <a:tab algn="l" pos="0"/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589-15CF-4284-9B7F-70DFBAA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5C4-DE73-4D49-95F6-48B71C83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43440" y="2385288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6EB-DB05-43CA-AF35-DA5E4F81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000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43440" y="11440800"/>
            <a:ext cx="1344096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0000" y="23852880"/>
            <a:ext cx="27543240" cy="11334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indent="0">
              <a:spcBef>
                <a:spcPts val="3574"/>
              </a:spcBef>
              <a:buNone/>
              <a:tabLst>
                <a:tab algn="l" pos="4111560"/>
                <a:tab algn="l" pos="8223120"/>
              </a:tabLst>
            </a:pP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EF4-EB18-4F09-B197-07215BE1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1174-9736-48A2-8A36-8EBAA54818F4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2448000" y="19291320"/>
            <a:ext cx="27120600" cy="2805120"/>
          </a:xfrm>
          <a:custGeom>
            <a:avLst/>
            <a:gdLst>
              <a:gd name="textAreaLeft" fmla="*/ 0 w 27120600"/>
              <a:gd name="textAreaRight" fmla="*/ 27120960 w 27120600"/>
              <a:gd name="textAreaTop" fmla="*/ 0 h 2805120"/>
              <a:gd name="textAreaBottom" fmla="*/ 2805480 h 280512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200" bIns="43200" anchor="ctr">
            <a:noAutofit/>
          </a:bodyPr>
          <a:p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0000" y="2639880"/>
            <a:ext cx="27543240" cy="660096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b">
            <a:noAutofit/>
          </a:bodyPr>
          <a:p>
            <a:pPr indent="0">
              <a:buNone/>
              <a:tabLst>
                <a:tab algn="l" pos="0"/>
                <a:tab algn="l" pos="4111560"/>
                <a:tab algn="l" pos="8223120"/>
              </a:tabLst>
            </a:pPr>
            <a:r>
              <a:rPr b="0" lang="en-US" sz="198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19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430000" y="11440800"/>
            <a:ext cx="27543240" cy="2376324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rmAutofit/>
          </a:bodyPr>
          <a:p>
            <a:pPr marL="1541520" indent="-1541520">
              <a:spcBef>
                <a:spcPts val="3574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1" marL="3343320" indent="-1285920">
              <a:spcBef>
                <a:spcPts val="3574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2" marL="5143680" indent="-1030320">
              <a:spcBef>
                <a:spcPts val="3574"/>
              </a:spcBef>
              <a:buClr>
                <a:srgbClr val="333333"/>
              </a:buClr>
              <a:buFont typeface="Times New Roman"/>
              <a:buChar char="•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3" marL="7201080" indent="-1028880">
              <a:spcBef>
                <a:spcPts val="3574"/>
              </a:spcBef>
              <a:buClr>
                <a:srgbClr val="333333"/>
              </a:buClr>
              <a:buFont typeface="Times New Roman"/>
              <a:buChar char="–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4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5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  <a:p>
            <a:pPr lvl="6" marL="9255240" indent="-1027080">
              <a:spcBef>
                <a:spcPts val="3574"/>
              </a:spcBef>
              <a:buClr>
                <a:srgbClr val="333333"/>
              </a:buClr>
              <a:buFont typeface="Times New Roman"/>
              <a:buChar char="»"/>
              <a:tabLst>
                <a:tab algn="l" pos="4111560"/>
                <a:tab algn="l" pos="8223120"/>
              </a:tabLst>
            </a:pPr>
            <a:r>
              <a:rPr b="0" lang="en-US" sz="143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14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43036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11070720" y="36083880"/>
            <a:ext cx="102618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23223600" y="36083880"/>
            <a:ext cx="6750000" cy="2641680"/>
          </a:xfrm>
          <a:prstGeom prst="rect">
            <a:avLst/>
          </a:prstGeom>
          <a:noFill/>
          <a:ln w="0">
            <a:noFill/>
          </a:ln>
        </p:spPr>
        <p:txBody>
          <a:bodyPr lIns="411480" rIns="411480" tIns="205560" bIns="205560" anchor="t">
            <a:noAutofit/>
          </a:bodyPr>
          <a:lstStyle>
            <a:lvl1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3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39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A3D5-A2CB-4608-9CD4-703485889E7A}" type="slidenum">
              <a:rPr b="0" lang="en-US" sz="63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20"/>
          <p:cNvSpPr/>
          <p:nvPr/>
        </p:nvSpPr>
        <p:spPr>
          <a:xfrm>
            <a:off x="1133640" y="4951440"/>
            <a:ext cx="30622680" cy="110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6300" spc="-1" strike="noStrike">
                <a:solidFill>
                  <a:srgbClr val="000000"/>
                </a:solidFill>
                <a:latin typeface="Arial"/>
              </a:rPr>
              <a:t>Título da pesquisa  XXXXXXXXXXXXXXXXX</a:t>
            </a:r>
            <a:endParaRPr b="0" lang="en-US" sz="63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322"/>
          <p:cNvSpPr/>
          <p:nvPr/>
        </p:nvSpPr>
        <p:spPr>
          <a:xfrm>
            <a:off x="73080" y="7116840"/>
            <a:ext cx="321865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Aluno ou Aluna: </a:t>
            </a:r>
            <a:r>
              <a:rPr b="1" lang="pt-BR" sz="5100" spc="-1" strike="noStrike">
                <a:solidFill>
                  <a:srgbClr val="000000"/>
                </a:solidFill>
                <a:latin typeface="Arial"/>
              </a:rPr>
              <a:t>XXXXXXXX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Orientador ou Orientadora: Prof. ou Profa. XXXXX Se for Doutor, Prof. Dr. ou Profa. Dra.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Ciências Exatas e Tecnologia - Engenharia - Indianópolis (trata-se de um exemplo:cada aluno deve preencher com seus dados de curso e </a:t>
            </a:r>
            <a:r>
              <a:rPr b="0" i="1" lang="pt-BR" sz="5100" spc="-1" strike="noStrike">
                <a:solidFill>
                  <a:srgbClr val="000000"/>
                </a:solidFill>
                <a:latin typeface="Arial"/>
              </a:rPr>
              <a:t>campus</a:t>
            </a:r>
            <a:r>
              <a:rPr b="0" lang="pt-BR" sz="5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Text Box 361"/>
          <p:cNvSpPr/>
          <p:nvPr/>
        </p:nvSpPr>
        <p:spPr>
          <a:xfrm>
            <a:off x="7315200" y="1606680"/>
            <a:ext cx="25088760" cy="233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4000" rIns="144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7200" spc="-1" strike="noStrike">
                <a:solidFill>
                  <a:srgbClr val="000000"/>
                </a:solidFill>
                <a:latin typeface="Arial"/>
              </a:rPr>
              <a:t>Apoio UNIP - Vice-Reitoria de Pós-Graduação e Pesquis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224000" y="36252000"/>
            <a:ext cx="1119672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51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0000"/>
                <a:tab algn="l" pos="2879640"/>
                <a:tab algn="l" pos="4319640"/>
                <a:tab algn="l" pos="5759280"/>
                <a:tab algn="l" pos="7199280"/>
                <a:tab algn="l" pos="8639280"/>
                <a:tab algn="l" pos="10078920"/>
              </a:tabLst>
            </a:pPr>
            <a:r>
              <a:rPr b="1" lang="pt-BR" sz="4200" spc="-1" strike="noStrike">
                <a:solidFill>
                  <a:srgbClr val="000000"/>
                </a:solidFill>
                <a:latin typeface="Arial"/>
              </a:rPr>
              <a:t>Palavras-chave</a:t>
            </a: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: (de 3 a 5)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Picture 9" descr="C:\Users\POS\Pictures\Logos\LogoTarja_ViceReitoria.png"/>
          <p:cNvPicPr/>
          <p:nvPr/>
        </p:nvPicPr>
        <p:blipFill>
          <a:blip r:embed="rId1"/>
          <a:stretch/>
        </p:blipFill>
        <p:spPr>
          <a:xfrm>
            <a:off x="1655640" y="1081080"/>
            <a:ext cx="76010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5:26:35Z</dcterms:created>
  <dc:creator>UNIP</dc:creator>
  <dc:description/>
  <dc:language>en-US</dc:language>
  <cp:lastModifiedBy>POS</cp:lastModifiedBy>
  <dcterms:modified xsi:type="dcterms:W3CDTF">2023-03-16T18:04:02Z</dcterms:modified>
  <cp:revision>186</cp:revision>
  <dc:subject/>
  <dc:title>Slide sem título</dc:title>
</cp:coreProperties>
</file>