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E63-0DD8-484C-BD57-BCFA304B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E5C-F11F-4333-938E-99DAB53C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680-F9A7-478A-8A02-BA918A00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326-648B-472B-9C39-0B29C7F0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5149-2C8E-413E-B1C8-D956222C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8AB0-FA60-4820-AFC9-1803BAA6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0454-B905-4166-88F7-FFFBD35D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CD0E-1779-43AC-98B3-A755D738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291E-D18A-40CA-B2A0-DB812B03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ACAA-C3B2-4D4D-9412-5E0FCE4B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3093-C538-4346-9415-9390836F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52C-75E6-490A-BFE2-77FF3B14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F3CD-00FA-40A6-8DB6-212AD376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8BA1-5B8D-4248-8D6F-CF06B8A6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C915-3A70-4D8B-B62C-BCC1028E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5AFB-52DD-4D2B-A4D7-51201333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7E7A-8016-4CEB-A381-8C5B98F1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2B8-7D3F-4739-BF1B-1425CC5B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2D2-E2B1-4C0F-BC90-7FE6ABD3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CBF-8EDA-43C5-A4F7-913402FA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23F-3C91-4939-804A-9565D94B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773-0BD8-459B-AC3B-5697729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94B-04C4-402F-97F9-B3CD14A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4EE-0089-4B7F-A245-ECD23CD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8D9B-ADC5-45CB-9B45-85B11D6A2630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3DEC-4AB0-440F-9A4B-8E2FCFEB5362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72436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da Saúde – Ciências Biológicas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8874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65240" y="-174600"/>
            <a:ext cx="19545120" cy="19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rcRect l="11655" t="4981" r="12175" b="31887"/>
          <a:stretch/>
        </p:blipFill>
        <p:spPr>
          <a:xfrm>
            <a:off x="6291360" y="13274640"/>
            <a:ext cx="19297440" cy="1795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401840" y="151272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1:46Z</dcterms:modified>
  <cp:revision>190</cp:revision>
  <dc:subject/>
  <dc:title>Slide sem título</dc:title>
</cp:coreProperties>
</file>