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2404050" cy="39603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9644-844A-4E84-A13D-88E54C68D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48A9-A066-4B0F-91F3-334458B5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A1BB-7AD2-4698-A36E-1BE5B9A74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A00D-D760-4165-8BEC-E4736BD70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9ADA-AD47-41E7-A441-221CD6D2B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9626-BC40-43E9-BC53-CD9B404B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8172-C03A-40BD-8786-AE6C4A34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186A-6FC8-4AC2-AF2D-4DEA687D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316E-D6D1-4F78-992E-3D688CF0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49E5-C81B-4D5F-9D25-5A605281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A1F5-64CA-43C4-835F-B8F302D7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7CB4-CDE0-44DC-B706-35832DC4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78BC-F882-494D-8F96-DAFE97B6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70A5-2EB8-4266-B08A-44A38E8C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19A7-0699-45F6-9C5E-029357C7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0AD6-218E-4D52-8B5D-2714357BD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5C51-D59A-4340-A689-CAE35C9EE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F804-2785-49AC-ACA0-26DFF4D0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31A9-8B15-4809-B300-AA717952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3A31-5E35-43D2-92AB-DFEC15A5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1261-EC7F-4671-A723-BFE21FEE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16D5-3634-4FD1-A5D1-6180015F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CD17-6488-4A42-92A5-CE9AEB0C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6C67-93B4-4F92-AC7B-F2E259E9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5A66-4DBF-47F1-AE53-AEFC554241F3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448000" y="19291320"/>
            <a:ext cx="27120600" cy="2805120"/>
          </a:xfrm>
          <a:custGeom>
            <a:avLst/>
            <a:gdLst>
              <a:gd name="textAreaLeft" fmla="*/ 0 w 27120600"/>
              <a:gd name="textAreaRight" fmla="*/ 27120960 w 27120600"/>
              <a:gd name="textAreaTop" fmla="*/ 0 h 2805120"/>
              <a:gd name="textAreaBottom" fmla="*/ 2805480 h 280512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BB87-5212-4C3E-B1BF-1B88620F25C2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846000" y="5073480"/>
            <a:ext cx="30621600" cy="110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Título da pesquisa  XXXXXXXXXXXXXXXXX</a:t>
            </a:r>
            <a:endParaRPr b="0" lang="en-US" sz="6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73080" y="7364520"/>
            <a:ext cx="32187960" cy="32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Aluno ou Aluna: </a:t>
            </a:r>
            <a:r>
              <a:rPr b="1" lang="pt-BR" sz="51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Orientador ou Orientadora: Prof. ou Profa. XXXXX Se for Doutor, Prof. Dr. ou Profa. Dra.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Ciências da Saúde - Biomedicina - Indianópolis (trata-se de um exemplo: cada aluno deve preencher com seus dados de curso e </a:t>
            </a:r>
            <a:r>
              <a:rPr b="0" i="1" lang="pt-BR" sz="5100" spc="-1" strike="noStrike">
                <a:solidFill>
                  <a:srgbClr val="000000"/>
                </a:solidFill>
                <a:latin typeface="Arial"/>
              </a:rPr>
              <a:t>campus</a:t>
            </a: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7315200" y="1606680"/>
            <a:ext cx="25088760" cy="233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Apoio UNIP - Vice-Reitoria de Pós-Graduação e 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Pesquisa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24000" y="36252000"/>
            <a:ext cx="1119672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51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4200" spc="-1" strike="noStrike">
                <a:solidFill>
                  <a:srgbClr val="000000"/>
                </a:solidFill>
                <a:latin typeface="Arial"/>
              </a:rPr>
              <a:t>Palavras-chave</a:t>
            </a:r>
            <a:r>
              <a:rPr b="0" lang="pt-BR" sz="4200" spc="-1" strike="noStrike">
                <a:solidFill>
                  <a:srgbClr val="000000"/>
                </a:solidFill>
                <a:latin typeface="Arial"/>
              </a:rPr>
              <a:t>: (até 03-três)</a:t>
            </a:r>
            <a:endParaRPr b="0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165240" y="-174600"/>
            <a:ext cx="19545120" cy="195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8" name="Imagem 1" descr=""/>
          <p:cNvPicPr/>
          <p:nvPr/>
        </p:nvPicPr>
        <p:blipFill>
          <a:blip r:embed="rId1"/>
          <a:stretch/>
        </p:blipFill>
        <p:spPr>
          <a:xfrm>
            <a:off x="6769080" y="13849200"/>
            <a:ext cx="17559360" cy="18297720"/>
          </a:xfrm>
          <a:prstGeom prst="rect">
            <a:avLst/>
          </a:prstGeom>
          <a:ln w="0">
            <a:noFill/>
          </a:ln>
        </p:spPr>
      </p:pic>
      <p:pic>
        <p:nvPicPr>
          <p:cNvPr id="89" name="Imagem 8" descr=""/>
          <p:cNvPicPr/>
          <p:nvPr/>
        </p:nvPicPr>
        <p:blipFill>
          <a:blip r:embed="rId2"/>
          <a:stretch/>
        </p:blipFill>
        <p:spPr>
          <a:xfrm>
            <a:off x="2089080" y="1658880"/>
            <a:ext cx="68407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1-11-17T14:46:07Z</dcterms:modified>
  <cp:revision>188</cp:revision>
  <dc:subject/>
  <dc:title>Slide sem título</dc:title>
</cp:coreProperties>
</file>