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5FA-6EF7-49BF-9466-642C088F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F38-0BD7-4345-A28F-620D8F9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F26-0F44-4581-AFA4-7965EC8E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09B-DCCB-4336-94A7-D509AAD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AB12-0697-4258-AB6E-ED5BF600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6BDC-D700-47EB-96D7-EC4CA8D2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534-D6CE-40DF-9D5E-189C6F74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E274-5FD0-407A-8ACC-07853AA2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61C-0061-4512-9B2C-4E6A07C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78D-05B9-4C38-968D-D14088B8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2770-B86A-4A9D-8E18-9B79DE3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199-1AFB-4A68-BABD-37083C0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8D46-1CC4-4FAD-818C-A4A4562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C010-3499-473A-9125-4EE39BD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B1AB-D26B-4F12-A245-DC806E1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F82-E162-415F-82E3-A1E63E02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F506-C844-45D7-9605-AC55DC89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958-543E-4788-B120-C5C6C5C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506-E9C9-4957-9613-85A3735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52F-A7C1-4737-B964-60DB237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DAA-4644-4739-8BCF-5325A28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1BC-3D9C-4A1F-8BF5-852AF81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3A0-31EF-4C86-AFC1-EA8FE37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B7D-C083-4DC0-B067-00D9899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F32-5865-4A92-BA11-038D336176C3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CEF-2087-43C5-B862-C2DC4479D36B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10560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54160" y="8313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659800" y="1450800"/>
            <a:ext cx="2461428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8:02Z</dcterms:modified>
  <cp:revision>181</cp:revision>
  <dc:subject/>
  <dc:title>Slide sem título </dc:title>
</cp:coreProperties>
</file>