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42A-5C1C-4941-BE00-79C3854A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1A6-1B0B-43C9-A433-2D1B91BF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57B-C94B-48DA-88F6-5F25A981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4AE-984F-46EF-B730-BAECA522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692E-6FA3-4093-98A7-E1AB0669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C611-87DD-4578-90F7-EFEED25F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4A86-90F9-478F-967A-64AA213A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F2A8-7265-4F19-A66A-61862470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38E2-209E-4EB7-9616-5FC362C3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A02F-9881-4729-ADB6-5CBBDB07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B5E2-F32C-409E-AB2D-524C06E9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88D-FC7E-4B2E-A87A-5ECA209C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B63D-3F4A-434D-943B-54199DE3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C6C6-97EC-415D-8337-4570AB92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8241-BE7B-4B87-BB8B-6F349B8D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1662-1F8B-4D89-96E3-FDF904C2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8A5A-D986-4BB9-BB68-3B9B5835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328-08F2-45A8-8F27-495C1D01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65E-6327-447B-91C8-B7406EA2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07A-FB99-44A9-9BA3-7FB80757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494-72BB-4570-A877-1408CC4B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628-45E2-48A3-B63D-A47E3E86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238-903B-469B-8343-06883C8B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F4A-D19E-4F58-B1BD-C342F946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04D0-BDDB-488D-9FFE-AF80357B6947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AF32-334A-4B3F-8B03-BDF65D012CB9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531720" y="627228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162000" y="845820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Ciências Sociais e Comunicação - Administração - Indianópolis (trata-se de um exemplo: cada aluno deve preencher com seus dados de curso e </a:t>
            </a:r>
            <a:r>
              <a:rPr b="0" i="1" lang="pt-BR" sz="57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913960" y="1257480"/>
            <a:ext cx="2414412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2a2a2a"/>
                </a:solidFill>
                <a:latin typeface="Arial"/>
              </a:rPr>
              <a:t>UNIP - Vice-Reitoria de Pós-Graduação e Pesquisa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7:37Z</dcterms:modified>
  <cp:revision>182</cp:revision>
  <dc:subject/>
  <dc:title>Slide sem título </dc:title>
</cp:coreProperties>
</file>