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4290000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8AA1-0443-4E43-9030-BD6CB215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828-A57C-4010-BB5A-FDD1EC3C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B11-792B-4D06-9477-F988C27B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1306-C4AC-43DC-9285-66F4256F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A174-A6AF-44AF-A6F7-69FD4532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9A6C-19F5-4A76-8284-93A8F25C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C84D-4DE9-4518-BE9A-5FC19914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499B-52AC-42C0-98BF-4BB062CD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5F9A-5560-4AEB-8690-AA0B32CB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A199-572F-4E74-8998-2204E3F9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0213-CA89-4B4F-B622-AB5DAFE1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3BE3-2F77-4A11-9A91-91E06B8D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E142-E336-42C8-94B7-D4A4B57D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4273-FFD0-439B-9547-964BA05C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C805-9A22-4AFD-BAC6-E82BF572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EC66-C9FA-48C8-B0DA-92C9FC65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8D86-6B76-482A-9F72-B7B9DAB9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3F31-352B-4BFE-B6BF-CE34C7C6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2AE0-EDEA-4A10-BD83-AFA4DD3A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6200-B0D3-48E5-BCE1-70DAC72C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2CFB-3113-4007-BAFC-AA216D97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22AE-F0EC-48D3-A877-74AA9926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C8CA-2B0B-42CE-83F0-0384D83C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627-2B31-4371-85BA-061C08D7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6275-896B-4628-8C92-BE2A16CC3E5E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590920" y="22269600"/>
            <a:ext cx="28698840" cy="3238200"/>
          </a:xfrm>
          <a:custGeom>
            <a:avLst/>
            <a:gdLst>
              <a:gd name="textAreaLeft" fmla="*/ 0 w 28698840"/>
              <a:gd name="textAreaRight" fmla="*/ 28699200 w 28698840"/>
              <a:gd name="textAreaTop" fmla="*/ 0 h 3238200"/>
              <a:gd name="textAreaBottom" fmla="*/ 3238560 h 323820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2959-FA33-4623-B8C7-147269D2FD83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795240" y="6283440"/>
            <a:ext cx="32404320" cy="13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7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lang="pt-BR" sz="7000" spc="-1" strike="noStrike">
                <a:solidFill>
                  <a:srgbClr val="000066"/>
                </a:solidFill>
                <a:latin typeface="Arial"/>
              </a:rPr>
              <a:t>Título da pesquisa  XXXXXXXXXXXXXXXXX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228600" y="8458200"/>
            <a:ext cx="34061400" cy="36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49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pt-BR" sz="5700" spc="-1" strike="noStrike">
                <a:solidFill>
                  <a:srgbClr val="000066"/>
                </a:solidFill>
                <a:latin typeface="Arial"/>
              </a:rPr>
              <a:t>Autor: </a:t>
            </a:r>
            <a:r>
              <a:rPr b="1" lang="pt-BR" sz="5700" spc="-1" strike="noStrike">
                <a:solidFill>
                  <a:srgbClr val="000066"/>
                </a:solidFill>
                <a:latin typeface="Arial"/>
              </a:rPr>
              <a:t>XXXXXXXX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000066"/>
                </a:solidFill>
                <a:latin typeface="Arial"/>
              </a:rPr>
              <a:t>                               </a:t>
            </a:r>
            <a:r>
              <a:rPr b="0" lang="pt-BR" sz="5700" spc="-1" strike="noStrike">
                <a:solidFill>
                  <a:srgbClr val="000066"/>
                </a:solidFill>
                <a:latin typeface="Arial"/>
              </a:rPr>
              <a:t>Orientador: Prof. ou Profa. XXXXX Se for Doutor, Prof. Dr. ou Profa. Dra.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000066"/>
                </a:solidFill>
                <a:latin typeface="Arial"/>
              </a:rPr>
              <a:t>Ciências da Saúde - Odontologia - Indianópolis (trata-se de um exemplo: cada aluno deve preencher com seus dados de curso e </a:t>
            </a:r>
            <a:r>
              <a:rPr b="0" i="1" lang="pt-BR" sz="5700" spc="-1" strike="noStrike">
                <a:solidFill>
                  <a:srgbClr val="000066"/>
                </a:solidFill>
                <a:latin typeface="Arial"/>
              </a:rPr>
              <a:t>campus</a:t>
            </a:r>
            <a:r>
              <a:rPr b="0" lang="pt-BR" sz="57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9020160" y="1257480"/>
            <a:ext cx="24037920" cy="367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000066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000066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000066"/>
                </a:solidFill>
                <a:latin typeface="Arial"/>
              </a:rPr>
              <a:t>UNIP - Vice-Reitoria de Pós-Graduação e Pesquisa</a:t>
            </a:r>
            <a:r>
              <a:rPr b="1" lang="pt-BR" sz="6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95280" y="41849640"/>
            <a:ext cx="1184760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57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4700" spc="-1" strike="noStrike">
                <a:solidFill>
                  <a:srgbClr val="000066"/>
                </a:solidFill>
                <a:latin typeface="Arial"/>
              </a:rPr>
              <a:t>Palavras-chave</a:t>
            </a:r>
            <a:r>
              <a:rPr b="0" lang="pt-BR" sz="4700" spc="-1" strike="noStrike">
                <a:solidFill>
                  <a:srgbClr val="000066"/>
                </a:solidFill>
                <a:latin typeface="Arial"/>
              </a:rPr>
              <a:t>: (de 3 a 5)</a:t>
            </a:r>
            <a:endParaRPr b="0" lang="en-US" sz="47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59080" y="1762200"/>
            <a:ext cx="7599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27:07Z</dcterms:modified>
  <cp:revision>179</cp:revision>
  <dc:subject/>
  <dc:title>Slide sem título </dc:title>
</cp:coreProperties>
</file>