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34290000" cy="45720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32D4-A442-44E9-8D3B-E39860F76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2914632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71840" y="27536400"/>
            <a:ext cx="2914632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DFC2-0117-4E01-8282-624EAB314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7506800" y="1320804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71840" y="2753640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7506800" y="2753640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B3C5-4F4A-4AE7-B6C3-0786D0C78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93848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426480" y="13208040"/>
            <a:ext cx="93848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2280760" y="13208040"/>
            <a:ext cx="93848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71840" y="27536400"/>
            <a:ext cx="93848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426480" y="27536400"/>
            <a:ext cx="93848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2280760" y="27536400"/>
            <a:ext cx="93848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13FC-6344-4732-8B81-3D3026007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D3AA0-E5A4-4648-8F47-BDB40DE6A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571840" y="13208040"/>
            <a:ext cx="29146320" cy="27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974"/>
              </a:spcBef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75903-B353-42A6-AE32-995F2521F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29146320" cy="27432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B3555-7692-4441-AFF0-BC8F1B35F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14223240" cy="27432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7506800" y="13208040"/>
            <a:ext cx="14223240" cy="27432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B21C8-E328-483A-9A65-FE7BFB0A9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6DA23-016F-46CE-B5C5-0FF032ABF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571840" y="3048120"/>
            <a:ext cx="29146320" cy="3532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974"/>
              </a:spcBef>
              <a:tabLst>
                <a:tab algn="l" pos="0"/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281AA-8354-4CB4-8728-7764F9A8A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7506800" y="13208040"/>
            <a:ext cx="14223240" cy="27432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571840" y="2753640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DDE0F-5A9C-4525-AE1F-40047C332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71840" y="13208040"/>
            <a:ext cx="29146320" cy="27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974"/>
              </a:spcBef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5B9C-B999-48A6-8423-831A637C0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14223240" cy="27432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17506800" y="1320804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7506800" y="2753640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9A265-9BF9-45A8-A61F-C120C3CAD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7506800" y="1320804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571840" y="27536400"/>
            <a:ext cx="2914632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6F159-8F27-42E6-9F60-5AFE3F51F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2914632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571840" y="27536400"/>
            <a:ext cx="2914632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1295A-AF8F-4FC9-A30A-AF025C3A2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7506800" y="1320804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571840" y="2753640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7506800" y="2753640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2A4CD-3636-4411-A4D5-05AC65F83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93848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2426480" y="13208040"/>
            <a:ext cx="93848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2280760" y="13208040"/>
            <a:ext cx="93848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571840" y="27536400"/>
            <a:ext cx="93848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12426480" y="27536400"/>
            <a:ext cx="93848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22280760" y="27536400"/>
            <a:ext cx="93848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A8B49-5B45-46C4-9EE9-09A06038B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29146320" cy="27432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E2B5-1ED9-4D6B-B7CE-E64B561C1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14223240" cy="27432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7506800" y="13208040"/>
            <a:ext cx="14223240" cy="27432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A521-5034-4BF3-84E0-29EFB9BDF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47E8-6656-47D1-9976-DF003C1DC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571840" y="3048120"/>
            <a:ext cx="29146320" cy="3532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974"/>
              </a:spcBef>
              <a:tabLst>
                <a:tab algn="l" pos="0"/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F41A-8D52-46B7-9D77-31767E627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7506800" y="13208040"/>
            <a:ext cx="14223240" cy="27432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71840" y="2753640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C374-A744-4BDE-85D2-E0EF5AF8B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14223240" cy="27432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7506800" y="1320804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7506800" y="2753640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3CA4-0431-4E56-8DD4-A5DC6FEDA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7506800" y="1320804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71840" y="27536400"/>
            <a:ext cx="2914632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5E4F-F37B-4846-9E66-02E2934B2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r>
              <a:rPr b="0" lang="en-US" sz="220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71840" y="13208040"/>
            <a:ext cx="29146320" cy="27432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marL="1712880" indent="-1712880">
              <a:spcBef>
                <a:spcPts val="3974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4568760"/>
                <a:tab algn="l" pos="9137520"/>
              </a:tabLst>
            </a:pPr>
            <a:r>
              <a:rPr b="0" lang="en-US" sz="159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  <a:p>
            <a:pPr lvl="1" marL="3714840" indent="-1428840">
              <a:spcBef>
                <a:spcPts val="3974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4568760"/>
                <a:tab algn="l" pos="9137520"/>
              </a:tabLst>
            </a:pPr>
            <a:r>
              <a:rPr b="0" lang="en-US" sz="159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  <a:p>
            <a:pPr lvl="2" marL="5715000" indent="-1146240">
              <a:spcBef>
                <a:spcPts val="3974"/>
              </a:spcBef>
              <a:buClr>
                <a:srgbClr val="333333"/>
              </a:buClr>
              <a:buFont typeface="Times New Roman"/>
              <a:buChar char="•"/>
              <a:tabLst>
                <a:tab algn="l" pos="4568760"/>
                <a:tab algn="l" pos="9137520"/>
              </a:tabLst>
            </a:pPr>
            <a:r>
              <a:rPr b="0" lang="en-US" sz="159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  <a:p>
            <a:pPr lvl="3" marL="8001000" indent="-1144440">
              <a:spcBef>
                <a:spcPts val="3974"/>
              </a:spcBef>
              <a:buClr>
                <a:srgbClr val="333333"/>
              </a:buClr>
              <a:buFont typeface="Times New Roman"/>
              <a:buChar char="–"/>
              <a:tabLst>
                <a:tab algn="l" pos="4568760"/>
                <a:tab algn="l" pos="9137520"/>
              </a:tabLst>
            </a:pPr>
            <a:r>
              <a:rPr b="0" lang="en-US" sz="159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  <a:p>
            <a:pPr lvl="4" marL="10283760" indent="-1141200">
              <a:spcBef>
                <a:spcPts val="3974"/>
              </a:spcBef>
              <a:buClr>
                <a:srgbClr val="333333"/>
              </a:buClr>
              <a:buFont typeface="Times New Roman"/>
              <a:buChar char="»"/>
              <a:tabLst>
                <a:tab algn="l" pos="4568760"/>
                <a:tab algn="l" pos="9137520"/>
              </a:tabLst>
            </a:pPr>
            <a:r>
              <a:rPr b="0" lang="en-US" sz="159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  <a:p>
            <a:pPr lvl="5" marL="10283760" indent="-1141200">
              <a:spcBef>
                <a:spcPts val="3974"/>
              </a:spcBef>
              <a:buClr>
                <a:srgbClr val="333333"/>
              </a:buClr>
              <a:buFont typeface="Times New Roman"/>
              <a:buChar char="»"/>
              <a:tabLst>
                <a:tab algn="l" pos="4568760"/>
                <a:tab algn="l" pos="9137520"/>
              </a:tabLst>
            </a:pPr>
            <a:r>
              <a:rPr b="0" lang="en-US" sz="159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  <a:p>
            <a:pPr lvl="6" marL="10283760" indent="-1141200">
              <a:spcBef>
                <a:spcPts val="3974"/>
              </a:spcBef>
              <a:buClr>
                <a:srgbClr val="333333"/>
              </a:buClr>
              <a:buFont typeface="Times New Roman"/>
              <a:buChar char="»"/>
              <a:tabLst>
                <a:tab algn="l" pos="4568760"/>
                <a:tab algn="l" pos="9137520"/>
              </a:tabLst>
            </a:pPr>
            <a:r>
              <a:rPr b="0" lang="en-US" sz="159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571840" y="41655600"/>
            <a:ext cx="7143840" cy="30481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715840" y="41655600"/>
            <a:ext cx="10858320" cy="30481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4574320" y="41655600"/>
            <a:ext cx="7143480" cy="30481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Autofit/>
          </a:bodyPr>
          <a:lstStyle>
            <a:lvl1pPr indent="0" algn="r">
              <a:spcBef>
                <a:spcPts val="4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4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430FE-5D54-40D9-B016-4F92C636B405}" type="slidenum">
              <a:rPr b="0" lang="en-US" sz="70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>
            <a:off x="2590920" y="22269600"/>
            <a:ext cx="28698840" cy="3238200"/>
          </a:xfrm>
          <a:custGeom>
            <a:avLst/>
            <a:gdLst>
              <a:gd name="textAreaLeft" fmla="*/ 0 w 28698840"/>
              <a:gd name="textAreaRight" fmla="*/ 28699200 w 28698840"/>
              <a:gd name="textAreaTop" fmla="*/ 0 h 3238200"/>
              <a:gd name="textAreaBottom" fmla="*/ 3238560 h 3238200"/>
            </a:gdLst>
            <a:ahLst/>
            <a:rect l="textAreaLeft" t="textAreaTop" r="textAreaRight" b="textAreaBottom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ctr">
            <a:noAutofit/>
          </a:bodyPr>
          <a:p>
            <a:endParaRPr b="0" lang="en-US" sz="2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r>
              <a:rPr b="0" lang="en-US" sz="220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2571840" y="13208040"/>
            <a:ext cx="29146320" cy="27432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marL="1712880" indent="-1712880">
              <a:spcBef>
                <a:spcPts val="3974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4568760"/>
                <a:tab algn="l" pos="9137520"/>
              </a:tabLst>
            </a:pPr>
            <a:r>
              <a:rPr b="0" lang="en-US" sz="159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  <a:p>
            <a:pPr lvl="1" marL="3714840" indent="-1428840">
              <a:spcBef>
                <a:spcPts val="3974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4568760"/>
                <a:tab algn="l" pos="9137520"/>
              </a:tabLst>
            </a:pPr>
            <a:r>
              <a:rPr b="0" lang="en-US" sz="159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  <a:p>
            <a:pPr lvl="2" marL="5715000" indent="-1146240">
              <a:spcBef>
                <a:spcPts val="3974"/>
              </a:spcBef>
              <a:buClr>
                <a:srgbClr val="333333"/>
              </a:buClr>
              <a:buFont typeface="Times New Roman"/>
              <a:buChar char="•"/>
              <a:tabLst>
                <a:tab algn="l" pos="4568760"/>
                <a:tab algn="l" pos="9137520"/>
              </a:tabLst>
            </a:pPr>
            <a:r>
              <a:rPr b="0" lang="en-US" sz="159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  <a:p>
            <a:pPr lvl="3" marL="8001000" indent="-1144440">
              <a:spcBef>
                <a:spcPts val="3974"/>
              </a:spcBef>
              <a:buClr>
                <a:srgbClr val="333333"/>
              </a:buClr>
              <a:buFont typeface="Times New Roman"/>
              <a:buChar char="–"/>
              <a:tabLst>
                <a:tab algn="l" pos="4568760"/>
                <a:tab algn="l" pos="9137520"/>
              </a:tabLst>
            </a:pPr>
            <a:r>
              <a:rPr b="0" lang="en-US" sz="159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  <a:p>
            <a:pPr lvl="4" marL="10283760" indent="-1141200">
              <a:spcBef>
                <a:spcPts val="3974"/>
              </a:spcBef>
              <a:buClr>
                <a:srgbClr val="333333"/>
              </a:buClr>
              <a:buFont typeface="Times New Roman"/>
              <a:buChar char="»"/>
              <a:tabLst>
                <a:tab algn="l" pos="4568760"/>
                <a:tab algn="l" pos="9137520"/>
              </a:tabLst>
            </a:pPr>
            <a:r>
              <a:rPr b="0" lang="en-US" sz="159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  <a:p>
            <a:pPr lvl="5" marL="10283760" indent="-1141200">
              <a:spcBef>
                <a:spcPts val="3974"/>
              </a:spcBef>
              <a:buClr>
                <a:srgbClr val="333333"/>
              </a:buClr>
              <a:buFont typeface="Times New Roman"/>
              <a:buChar char="»"/>
              <a:tabLst>
                <a:tab algn="l" pos="4568760"/>
                <a:tab algn="l" pos="9137520"/>
              </a:tabLst>
            </a:pPr>
            <a:r>
              <a:rPr b="0" lang="en-US" sz="159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  <a:p>
            <a:pPr lvl="6" marL="10283760" indent="-1141200">
              <a:spcBef>
                <a:spcPts val="3974"/>
              </a:spcBef>
              <a:buClr>
                <a:srgbClr val="333333"/>
              </a:buClr>
              <a:buFont typeface="Times New Roman"/>
              <a:buChar char="»"/>
              <a:tabLst>
                <a:tab algn="l" pos="4568760"/>
                <a:tab algn="l" pos="9137520"/>
              </a:tabLst>
            </a:pPr>
            <a:r>
              <a:rPr b="0" lang="en-US" sz="159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2571840" y="41655600"/>
            <a:ext cx="7143840" cy="30481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11715840" y="41655600"/>
            <a:ext cx="10858320" cy="30481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24574320" y="41655600"/>
            <a:ext cx="7143480" cy="30481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Autofit/>
          </a:bodyPr>
          <a:lstStyle>
            <a:lvl1pPr indent="0" algn="r">
              <a:spcBef>
                <a:spcPts val="4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4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42B4E-DC25-438C-B9AD-FCC953F75507}" type="slidenum">
              <a:rPr b="0" lang="en-US" sz="70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320"/>
          <p:cNvSpPr/>
          <p:nvPr/>
        </p:nvSpPr>
        <p:spPr>
          <a:xfrm>
            <a:off x="795240" y="6369120"/>
            <a:ext cx="32404320" cy="133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59840" rIns="159840" tIns="79920" bIns="799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1" lang="pt-BR" sz="7700" spc="-1" strike="noStrike">
                <a:solidFill>
                  <a:srgbClr val="000066"/>
                </a:solidFill>
                <a:latin typeface="Arial"/>
              </a:rPr>
              <a:t>                   </a:t>
            </a:r>
            <a:r>
              <a:rPr b="1" lang="pt-BR" sz="7000" spc="-1" strike="noStrike">
                <a:solidFill>
                  <a:srgbClr val="333333"/>
                </a:solidFill>
                <a:latin typeface="Arial"/>
              </a:rPr>
              <a:t>Título da pesquisa  XXXXXXXXXXXXXXXXX</a:t>
            </a:r>
            <a:endParaRPr b="0" lang="en-US" sz="7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4" name="Text Box 322"/>
          <p:cNvSpPr/>
          <p:nvPr/>
        </p:nvSpPr>
        <p:spPr>
          <a:xfrm>
            <a:off x="282600" y="8097840"/>
            <a:ext cx="34061400" cy="36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9840" rIns="159840" tIns="79920" bIns="799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0" lang="pt-BR" sz="4900" spc="-1" strike="noStrike">
                <a:solidFill>
                  <a:srgbClr val="333333"/>
                </a:solidFill>
                <a:latin typeface="Arial"/>
              </a:rPr>
              <a:t>                         </a:t>
            </a:r>
            <a:r>
              <a:rPr b="0" lang="pt-BR" sz="5700" spc="-1" strike="noStrike">
                <a:solidFill>
                  <a:srgbClr val="333333"/>
                </a:solidFill>
                <a:latin typeface="Arial"/>
              </a:rPr>
              <a:t>Autor: </a:t>
            </a:r>
            <a:r>
              <a:rPr b="1" lang="pt-BR" sz="5700" spc="-1" strike="noStrike">
                <a:solidFill>
                  <a:srgbClr val="333333"/>
                </a:solidFill>
                <a:latin typeface="Arial"/>
              </a:rPr>
              <a:t>XXXXXXXX</a:t>
            </a:r>
            <a:endParaRPr b="0" lang="en-US" sz="57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0" lang="pt-BR" sz="5700" spc="-1" strike="noStrike">
                <a:solidFill>
                  <a:srgbClr val="333333"/>
                </a:solidFill>
                <a:latin typeface="Arial"/>
              </a:rPr>
              <a:t>                               </a:t>
            </a:r>
            <a:r>
              <a:rPr b="0" lang="pt-BR" sz="5700" spc="-1" strike="noStrike">
                <a:solidFill>
                  <a:srgbClr val="333333"/>
                </a:solidFill>
                <a:latin typeface="Arial"/>
              </a:rPr>
              <a:t>Orientador: Prof. ou Profa. XXXXX Se for Doutor, Prof. Dr. ou Profa. Dra.</a:t>
            </a:r>
            <a:endParaRPr b="0" lang="en-US" sz="57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0" lang="pt-BR" sz="5700" spc="-1" strike="noStrike">
                <a:solidFill>
                  <a:srgbClr val="333333"/>
                </a:solidFill>
                <a:latin typeface="Arial"/>
              </a:rPr>
              <a:t>Ciências Humanas - Pedagogia - Indianópolis (trata-se de um exemplo:cada aluno deve preencher com seus dados de curso e </a:t>
            </a:r>
            <a:r>
              <a:rPr b="0" i="1" lang="pt-BR" sz="5700" spc="-1" strike="noStrike">
                <a:solidFill>
                  <a:srgbClr val="333333"/>
                </a:solidFill>
                <a:latin typeface="Arial"/>
              </a:rPr>
              <a:t>campus</a:t>
            </a:r>
            <a:r>
              <a:rPr b="0" lang="pt-BR" sz="57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57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5" name="Text Box 361"/>
          <p:cNvSpPr/>
          <p:nvPr/>
        </p:nvSpPr>
        <p:spPr>
          <a:xfrm>
            <a:off x="8012160" y="1112760"/>
            <a:ext cx="24974640" cy="3712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59840" rIns="159840" tIns="79920" bIns="7992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1" lang="pt-BR" sz="7000" spc="-1" strike="noStrike">
                <a:solidFill>
                  <a:srgbClr val="333333"/>
                </a:solidFill>
                <a:latin typeface="Arial"/>
              </a:rPr>
              <a:t>Apoios: SANTANDER - Programa Santander </a:t>
            </a:r>
            <a:endParaRPr b="0" lang="en-US" sz="7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1" lang="pt-BR" sz="7000" spc="-1" strike="noStrike">
                <a:solidFill>
                  <a:srgbClr val="333333"/>
                </a:solidFill>
                <a:latin typeface="Arial"/>
              </a:rPr>
              <a:t>Universidades de Bolsas Graduação e</a:t>
            </a:r>
            <a:endParaRPr b="0" lang="en-US" sz="7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1" lang="pt-BR" sz="7000" spc="-1" strike="noStrike">
                <a:solidFill>
                  <a:srgbClr val="333333"/>
                </a:solidFill>
                <a:latin typeface="Arial"/>
              </a:rPr>
              <a:t>UNIP - Vice-Reitoria de Pós-Graduação e Pesquisa</a:t>
            </a:r>
            <a:r>
              <a:rPr b="1" lang="pt-BR" sz="7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7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6" name="Rectangle 12"/>
          <p:cNvSpPr/>
          <p:nvPr/>
        </p:nvSpPr>
        <p:spPr>
          <a:xfrm>
            <a:off x="1295280" y="41849640"/>
            <a:ext cx="11847600" cy="16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1" lang="pt-BR" sz="57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57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1" lang="pt-BR" sz="4700" spc="-1" strike="noStrike">
                <a:solidFill>
                  <a:srgbClr val="333333"/>
                </a:solidFill>
                <a:latin typeface="Arial"/>
              </a:rPr>
              <a:t>Palavras-chave</a:t>
            </a:r>
            <a:r>
              <a:rPr b="0" lang="pt-BR" sz="4700" spc="-1" strike="noStrike">
                <a:solidFill>
                  <a:srgbClr val="333333"/>
                </a:solidFill>
                <a:latin typeface="Arial"/>
              </a:rPr>
              <a:t>: (de 3 a 5)</a:t>
            </a:r>
            <a:endParaRPr b="0" lang="en-US" sz="47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87" name="Picture 9" descr="C:\Users\POS\Pictures\Logos\LogoTarja_ViceReitoria.png"/>
          <p:cNvPicPr/>
          <p:nvPr/>
        </p:nvPicPr>
        <p:blipFill>
          <a:blip r:embed="rId1"/>
          <a:stretch/>
        </p:blipFill>
        <p:spPr>
          <a:xfrm>
            <a:off x="1459080" y="1450800"/>
            <a:ext cx="759924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2T15:26:35Z</dcterms:created>
  <dc:creator>UNIP</dc:creator>
  <dc:description/>
  <dc:language>en-US</dc:language>
  <cp:lastModifiedBy>POS</cp:lastModifiedBy>
  <dcterms:modified xsi:type="dcterms:W3CDTF">2023-03-16T18:26:10Z</dcterms:modified>
  <cp:revision>183</cp:revision>
  <dc:subject/>
  <dc:title>Slide sem título </dc:title>
</cp:coreProperties>
</file>