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4290000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B08-A76D-4D23-BAE6-369BA2B6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35B8-73AE-4FAC-A615-D1974C22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C8F-A073-404D-93F7-17877CF0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2CA6-25D5-40B9-8AE7-50B5A4C8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3AD5-8388-418C-9347-BB1B47FB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14C7-D3CA-4A9D-9425-7D96A406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ACA0-6BA0-4D7E-9991-A36AD1BE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508B-D63D-46AA-8904-52334538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6668-C655-438E-A375-58EF06AA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FC7D-C498-4044-A58F-5F38CD30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211A-7935-4423-9B97-1637BBEE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193-68FF-443F-ACAD-F1220C38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A0B4-A074-40BB-B9C2-464DC3EC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910A-29F9-4371-89E6-2FB6E3AB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0D1A-DDC5-44E9-88AD-5BC709B4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807C-CCAA-42AA-8B88-CA2C005C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A698-158C-496C-BE07-E34FB406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A13-EC82-4E22-AFBF-671D49A5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197-ED2D-41CF-8C2D-0CF2FC00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551-C7D6-40B1-B1E6-A8597F2C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27A-E35D-4EBE-9B51-FE970844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5E6A-C286-4DDC-B4E3-F18EEF83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C3B1-2CBC-4ECD-936A-057DA8C1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B32F-3AF2-4D9D-A0D6-B9BBEDBF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A3B8-2399-45E7-8801-84324C4B1813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590920" y="22269600"/>
            <a:ext cx="28698840" cy="3238200"/>
          </a:xfrm>
          <a:custGeom>
            <a:avLst/>
            <a:gdLst>
              <a:gd name="textAreaLeft" fmla="*/ 0 w 28698840"/>
              <a:gd name="textAreaRight" fmla="*/ 28699200 w 28698840"/>
              <a:gd name="textAreaTop" fmla="*/ 0 h 3238200"/>
              <a:gd name="textAreaBottom" fmla="*/ 3238560 h 323820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D322-A413-48CA-8477-290ABCF3B90A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844560" y="6369120"/>
            <a:ext cx="3240396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7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pt-BR" sz="70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27200" y="8097840"/>
            <a:ext cx="33715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4900" spc="-1" strike="noStrike">
                <a:solidFill>
                  <a:srgbClr val="333333"/>
                </a:solidFill>
                <a:latin typeface="Arial"/>
              </a:rPr>
              <a:t>                         </a:t>
            </a:r>
            <a:r>
              <a:rPr b="0" lang="pt-BR" sz="5700" spc="-1" strike="noStrike">
                <a:solidFill>
                  <a:srgbClr val="191919"/>
                </a:solidFill>
                <a:latin typeface="Arial"/>
              </a:rPr>
              <a:t>Autor: </a:t>
            </a:r>
            <a:r>
              <a:rPr b="1" lang="pt-BR" sz="5700" spc="-1" strike="noStrike">
                <a:solidFill>
                  <a:srgbClr val="191919"/>
                </a:solidFill>
                <a:latin typeface="Arial"/>
              </a:rPr>
              <a:t>XXXXXXXX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191919"/>
                </a:solidFill>
                <a:latin typeface="Arial"/>
              </a:rPr>
              <a:t>                               </a:t>
            </a:r>
            <a:r>
              <a:rPr b="0" lang="pt-BR" sz="5500" spc="-1" strike="noStrike">
                <a:solidFill>
                  <a:srgbClr val="191919"/>
                </a:solidFill>
                <a:latin typeface="Arial"/>
              </a:rPr>
              <a:t>Orientador: Prof. ou Profa. XXXXX Se for Doutor, Prof. Dr. ou Profa. Dra.</a:t>
            </a:r>
            <a:endParaRPr b="0" lang="en-US" sz="5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500" spc="-1" strike="noStrike">
                <a:solidFill>
                  <a:srgbClr val="191919"/>
                </a:solidFill>
                <a:latin typeface="Arial"/>
                <a:ea typeface="Arial"/>
              </a:rPr>
              <a:t>Superior Tecnológico - Informação e Comunicação  - Gestão da Tecnologia da Informação</a:t>
            </a:r>
            <a:r>
              <a:rPr b="0" lang="pt-BR" sz="5500" spc="-1" strike="noStrike">
                <a:solidFill>
                  <a:srgbClr val="191919"/>
                </a:solidFill>
                <a:latin typeface="Times New Roman"/>
              </a:rPr>
              <a:t> </a:t>
            </a:r>
            <a:r>
              <a:rPr b="0" lang="pt-BR" sz="5500" spc="-1" strike="noStrike">
                <a:solidFill>
                  <a:srgbClr val="191919"/>
                </a:solidFill>
                <a:latin typeface="Arial"/>
              </a:rPr>
              <a:t> - Indianópolis (trata-se de um exemplo: cada aluno deve preencher com seus dados de curso e </a:t>
            </a:r>
            <a:r>
              <a:rPr b="0" i="1" lang="pt-BR" sz="5500" spc="-1" strike="noStrike">
                <a:solidFill>
                  <a:srgbClr val="191919"/>
                </a:solidFill>
                <a:latin typeface="Arial"/>
              </a:rPr>
              <a:t>campus</a:t>
            </a:r>
            <a:r>
              <a:rPr b="0" lang="pt-BR" sz="5700" spc="-1" strike="noStrike">
                <a:solidFill>
                  <a:srgbClr val="191919"/>
                </a:solidFill>
                <a:latin typeface="Arial"/>
              </a:rPr>
              <a:t>)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8288280" y="1427040"/>
            <a:ext cx="24685560" cy="367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191919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191919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191919"/>
                </a:solidFill>
                <a:latin typeface="Arial"/>
              </a:rPr>
              <a:t>UNIP - Vice-Reitoria de Pós-Graduação e Pesquisa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95280" y="41849640"/>
            <a:ext cx="1184760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47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7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7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59080" y="145080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5:45Z</dcterms:modified>
  <cp:revision>187</cp:revision>
  <dc:subject/>
  <dc:title>Slide sem título </dc:title>
</cp:coreProperties>
</file>