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71C-A921-47BA-AF9F-6F962E6F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47C1-BBF3-455B-A0B5-32C6274E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46D-DF4E-4BFD-9B5B-A54E74CD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F2B-5F02-4E95-A358-52C8956D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D246-762C-4817-A5FA-1707ED17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6182-62A9-4AE6-8C89-848028AD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80E9-178E-43FF-86FD-8E7E7D3E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7A8E-BCD3-4C2E-809C-C4C1CED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4497-A84F-48A0-99B6-B7807445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3F17-B806-4498-AF22-4FE2562F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FD43-5289-49C5-8BFC-949FA5A0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817-59F7-4745-9629-FBCBA9C4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80D8-E0E0-4545-8BD6-C07AAB00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6193-334B-4891-B804-F4F973F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77A4-10A5-42CE-8E77-82A80386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A169-60A3-4B55-9967-DFFC31F2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334F-A648-44BB-8B7D-0F987748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55A-C455-4D70-BCBC-879C6144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DF1-3BF6-4127-8550-274B43B0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217-F8B4-483B-8402-EF4637F5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0C9-FECB-4A6D-8332-5B6DAD86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BCA-EAFD-4AF9-929D-3B038B8A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6C1-73FA-4836-B7F3-9E885A34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B8B-7763-4155-A83A-A4489B9C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7C43-56CD-4710-99AA-73DD8A1DB77B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A0A8-B3B2-423B-A614-02C4C85B239A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19000" y="5838840"/>
            <a:ext cx="30621600" cy="12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133200" y="7561440"/>
            <a:ext cx="3218832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531280" y="1257480"/>
            <a:ext cx="22864680" cy="366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tretch/>
        </p:blipFill>
        <p:spPr>
          <a:xfrm>
            <a:off x="6769080" y="13849200"/>
            <a:ext cx="17559360" cy="1829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655640" y="1487520"/>
            <a:ext cx="7601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30:16Z</dcterms:modified>
  <cp:revision>188</cp:revision>
  <dc:subject/>
  <dc:title>Slide sem título</dc:title>
</cp:coreProperties>
</file>